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voltage.wav" ContentType="audio/x-wav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1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0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122-8692-4D77-B122-7EB321D8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819-C3E7-4DB6-8BD6-4DB05B4C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851-C196-46FE-9C1E-07D9AD09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AC7-7FD1-478E-B77F-C3225697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5D9E-CAA1-43F5-BFE0-1C19A3CF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97CE-BDEA-4135-A6F0-EB92D046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29D4-B562-425B-86B9-B339EF8C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1B86-019B-4202-86EF-7D257E0A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3410-283D-4D55-B8AC-86450275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77A9-BF03-45C0-B832-BEA58484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5BB6-E7E2-44F2-B1D1-1D5BEDFF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A71-7F3D-4D96-B508-15582F0B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3150-CDA7-48C3-9AC9-E888E1E7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8798-8271-481A-881B-35E4EB1F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2E78-CE94-41E8-BBFF-FA8172C9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8951-960A-4828-8224-CA38DAC5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4DB1-D5FD-4BD3-99BF-09734860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26F4-281B-4C7D-AECD-C2E1F9F6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0EA1-92A5-41DC-95C0-A0CD1028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6B92-E3E3-4544-A41F-6003BDDA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D36A-FA17-493D-B8DF-EDAEB1EB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386A-9140-4B9E-A7FC-C99E6EEE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99E-A7D1-40A8-BE0F-11970E52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9C4F1-3356-480A-9546-C1BF1241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77D4B-D2B9-4B57-A3F8-BEC127F6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0560-0FEF-432C-BAE3-91298F9C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72B1-8F51-4C96-BEFE-486673BF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9361-0935-4052-86DA-30B96501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8543-2226-4EF4-8267-9E223902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811A-394E-43F7-B066-68F2684B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32B8E-AAA1-4CBE-88D0-7B043EF1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BC022-F664-4B2F-A96D-BBFF3E6B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FFC89-E999-4A94-9352-7B41A3AD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DC8-21D1-4E2B-9C42-4AF88DA3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A581A-B3A1-41FF-B18C-412034F4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84F6-7F12-411F-9076-0F947ACB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9E88D-8346-4CB0-9470-9937CCC1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040CA-3DEB-4E49-8072-8E2F597F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4BC17-6948-43C8-A022-3F6F56DE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2F5BE-ADD9-4FD9-860F-0DEA2EA7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727FA-D0E8-4043-BED1-EFA609FA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84FC7-F573-451E-8249-663BAAFA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B9F2-B6A5-486B-83B2-7FF71D8F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95050-207E-4EB3-A7CB-39DD395B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368-9EEA-44D5-94A6-CD7F3569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A577D-B301-4A38-A36E-2012BDCA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29EFD-0546-4BE3-AF1C-0FE3D159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27DE2-7C46-410A-9130-4451DB14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F61E4-8500-47CC-9CDC-CC0AC410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08450-2D45-41DB-9751-5B7EE88F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8EFC-AA25-406E-9480-5D26D120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786CA-03DB-406E-B779-04EB1F48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C2C97-97B5-4C32-8E45-6D10DBC8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67542-0608-4D14-BEE2-6C9E8CF4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43E3B-8F76-45B3-9895-B3D039FE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597-05F0-44DD-900A-0F0F280A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6FCC4-E37D-48B4-919A-C6C0196A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21F-C372-4700-ADE0-CEA6C17E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5D9-8C09-4381-BC24-43B75775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452-C60A-4A75-8CAE-97344A2D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CE6E-67F2-4A7C-BEF7-7F648EA219A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8A74-F7A5-4C0D-98C2-9E49443E4B9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3A4F-81F6-425F-ADB1-32339F80082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E3D2-D16C-473C-89DC-B2F57A273151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04E2-BBAF-4F21-A6CF-BF12935FACF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176640" y="530280"/>
            <a:ext cx="5722920" cy="2878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J Barnes\AppData\Local\Microsoft\Windows\Temporary Internet Files\Content.IE5\VMER7TAP\MPj04393820000[1].jpg"/>
          <p:cNvPicPr/>
          <p:nvPr/>
        </p:nvPicPr>
        <p:blipFill>
          <a:blip r:embed="rId2"/>
          <a:stretch/>
        </p:blipFill>
        <p:spPr>
          <a:xfrm>
            <a:off x="4038480" y="4114800"/>
            <a:ext cx="2982960" cy="2090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start with your general subject like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70c0"/>
                </a:solidFill>
                <a:latin typeface="Trebuchet MS"/>
              </a:rPr>
              <a:t>ocea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C:\Users\J Barnes\AppData\Local\Microsoft\Windows\Temporary Internet Files\Content.IE5\Z0NX3WWN\MPj04389650000[1].jpg"/>
          <p:cNvPicPr/>
          <p:nvPr/>
        </p:nvPicPr>
        <p:blipFill>
          <a:blip r:embed="rId2"/>
          <a:stretch/>
        </p:blipFill>
        <p:spPr>
          <a:xfrm>
            <a:off x="1371600" y="2770200"/>
            <a:ext cx="5232240" cy="3478320"/>
          </a:xfrm>
          <a:prstGeom prst="rect">
            <a:avLst/>
          </a:prstGeom>
          <a:ln w="0">
            <a:noFill/>
          </a:ln>
        </p:spPr>
      </p:pic>
      <p:pic>
        <p:nvPicPr>
          <p:cNvPr id="225" name="MSj03882890000[1].wav" descr=""/>
          <p:cNvPicPr/>
          <p:nvPr/>
        </p:nvPicPr>
        <p:blipFill>
          <a:blip r:embed="rId3"/>
          <a:stretch/>
        </p:blipFill>
        <p:spPr>
          <a:xfrm>
            <a:off x="6629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595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n get to a more specific topic lik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en-US" sz="2600" spc="-1" strike="noStrike">
                <a:solidFill>
                  <a:srgbClr val="0070c0"/>
                </a:solidFill>
                <a:latin typeface="Trebuchet MS"/>
              </a:rPr>
              <a:t>Food from the ocea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Diagram 3" descr=""/>
          <p:cNvPicPr/>
          <p:nvPr/>
        </p:nvPicPr>
        <p:blipFill>
          <a:blip r:embed="rId2"/>
          <a:stretch/>
        </p:blipFill>
        <p:spPr>
          <a:xfrm>
            <a:off x="927000" y="2932200"/>
            <a:ext cx="4699080" cy="3529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J Barnes\AppData\Local\Microsoft\Windows\Temporary Internet Files\Content.IE5\Z0NX3WWN\MPj04328380000[1].jpg"/>
          <p:cNvPicPr/>
          <p:nvPr/>
        </p:nvPicPr>
        <p:blipFill>
          <a:blip r:embed="rId3"/>
          <a:stretch/>
        </p:blipFill>
        <p:spPr>
          <a:xfrm>
            <a:off x="4724280" y="4876920"/>
            <a:ext cx="1135080" cy="17096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540560" cy="1176480"/>
          </a:xfrm>
          <a:prstGeom prst="rect">
            <a:avLst/>
          </a:prstGeom>
          <a:ln w="0">
            <a:noFill/>
          </a:ln>
        </p:spPr>
      </p:pic>
      <p:pic>
        <p:nvPicPr>
          <p:cNvPr id="231" name="Content Placeholder 3" descr=""/>
          <p:cNvPicPr/>
          <p:nvPr/>
        </p:nvPicPr>
        <p:blipFill>
          <a:blip r:embed="rId2"/>
          <a:stretch/>
        </p:blipFill>
        <p:spPr>
          <a:xfrm>
            <a:off x="390600" y="1566720"/>
            <a:ext cx="7369200" cy="4973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your writer’s notebook, choose one of the ideas from your expert list or list of interests and narrow it dow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Diagram 5" descr=""/>
          <p:cNvPicPr/>
          <p:nvPr/>
        </p:nvPicPr>
        <p:blipFill>
          <a:blip r:embed="rId2"/>
          <a:stretch/>
        </p:blipFill>
        <p:spPr>
          <a:xfrm>
            <a:off x="1384200" y="2932200"/>
            <a:ext cx="49244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ry narrowing down another of your ideas from your expert list and list of idea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will come around to look at your narrowing pyramids and will ask you to share your work at the end of writing workshop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35:43Z</dcterms:created>
  <dc:creator>J Barnes</dc:creator>
  <dc:description/>
  <dc:language>en-US</dc:language>
  <cp:lastModifiedBy>J Barnes</cp:lastModifiedBy>
  <dcterms:modified xsi:type="dcterms:W3CDTF">2008-11-05T19:51:46Z</dcterms:modified>
  <cp:revision>10</cp:revision>
  <dc:subject/>
  <dc:title>Expository essays Narrowing your subject</dc:title>
</cp:coreProperties>
</file>